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gif" ContentType="image/gif"/>
  <Override PartName="/ppt/media/image16.png" ContentType="image/png"/>
  <Override PartName="/ppt/media/image22.jpeg" ContentType="image/jpeg"/>
  <Override PartName="/ppt/media/cashreg.wav" ContentType="audio/x-wav"/>
  <Override PartName="/ppt/media/image21.png" ContentType="image/png"/>
  <Override PartName="/ppt/media/image19.png" ContentType="image/png"/>
  <Override PartName="/ppt/media/image20.jpeg" ContentType="image/jpeg"/>
  <Override PartName="/ppt/media/image26.gif" ContentType="image/gif"/>
  <Override PartName="/ppt/media/image18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ZR1021.WAV" ContentType="audio/x-wav"/>
  <Override PartName="/ppt/media/image3.jpeg" ContentType="image/jpeg"/>
  <Override PartName="/ppt/media/image37.jpeg" ContentType="image/jpeg"/>
  <Override PartName="/ppt/media/image15.jpeg" ContentType="image/jpeg"/>
  <Override PartName="/ppt/media/%E5%B0%8F%E9%B8%A1%E5%8F%AB.wav" ContentType="audio/x-wav"/>
  <Override PartName="/ppt/media/image29.gif" ContentType="image/gif"/>
  <Override PartName="/ppt/media/image14.jpeg" ContentType="image/jpeg"/>
  <Override PartName="/ppt/media/image13.jpeg" ContentType="image/jpeg"/>
  <Override PartName="/ppt/media/chimes.wav" ContentType="audio/x-wav"/>
  <Override PartName="/ppt/media/image7.wmf" ContentType="image/x-wmf"/>
  <Override PartName="/ppt/media/image3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25.gif" ContentType="image/gif"/>
  <Override PartName="/ppt/media/type.wav" ContentType="audio/x-wav"/>
  <Override PartName="/ppt/media/image28.gif" ContentType="image/gif"/>
  <Override PartName="/ppt/media/image30.gif" ContentType="image/gif"/>
  <Override PartName="/ppt/media/image34.jpeg" ContentType="image/jpeg"/>
  <Override PartName="/ppt/media/image27.png" ContentType="image/png"/>
  <Override PartName="/ppt/media/drumroll.wav" ContentType="audio/x-wav"/>
  <Override PartName="/ppt/media/image33.jpeg" ContentType="image/jpeg"/>
  <Override PartName="/ppt/media/laser.wav" ContentType="audio/x-wav"/>
  <Override PartName="/ppt/media/image5.wmf" ContentType="image/x-wmf"/>
  <Override PartName="/ppt/media/projctor.wav" ContentType="audio/x-wav"/>
  <Override PartName="/ppt/media/camera.wav" ContentType="audio/x-wav"/>
  <Override PartName="/ppt/media/image6.wmf" ContentType="image/x-wmf"/>
  <Override PartName="/ppt/media/click.wav" ContentType="audio/x-wav"/>
  <Override PartName="/ppt/media/image9.jpeg" ContentType="image/jpeg"/>
  <Override PartName="/ppt/media/image4.png" ContentType="image/png"/>
  <Override PartName="/ppt/media/image12.jpeg" ContentType="image/jpeg"/>
  <Override PartName="/ppt/media/image36.jpeg" ContentType="image/jpeg"/>
  <Override PartName="/ppt/media/hammer.wav" ContentType="audio/x-wav"/>
  <Override PartName="/ppt/media/image2.jpeg" ContentType="image/jpeg"/>
  <Override PartName="/ppt/media/image1.png" ContentType="image/png"/>
  <Override PartName="/ppt/media/image11.jpeg" ContentType="image/jpeg"/>
  <Override PartName="/ppt/media/image3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4A6-934E-43AF-80AB-05F8B1E8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EDC-26B5-410A-89BA-C67DE474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A148D-51F1-49B1-A624-78331B29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59E71-3749-42AD-9F3B-0925DCB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64CC0-B7AD-448F-9DA0-4E642C29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7469D-F497-48E9-8587-04934191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73C9D-FB56-4881-B380-1971F139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717DC-0324-41B2-A5F7-A26A398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B5EDA-7A03-4236-9FA2-3EEB0899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07D96-053E-4F18-8101-C5DC271F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03A62-62F9-47CF-BD44-B2C0ACF2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ACFA3-B04D-4122-BDA6-FB66CC63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E7A-4B07-4F76-B01A-20149838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41A79-FA5C-4216-A0D2-EF58CE84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18935-CC2E-4F0C-B97A-7971533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31AF1-E851-4AED-9367-F3095163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9C2AF-EFEA-439B-943B-FA3428FC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94A43-C359-4460-AE43-E171A2BE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EBBEB-1343-4516-A870-EBAF045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F8710-C6A1-4355-B4C7-713A82FA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9BB20-0B2D-4627-9571-1D51A20D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20613-BB4B-42A4-A918-9E38E91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5FA5F-38CF-4D48-84C7-29F1E8C0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38A-B25A-46BB-8471-A9782087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FEA1E-30A5-4A9A-AC7D-8D69708A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5745C-E375-4A95-B425-E0C9610A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C0086-922F-48EF-BBE5-FD6B5E01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DF093-458E-4C9E-A48D-AB4FE84A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7419E-78A5-47B9-8432-7A167210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6DB8D-5748-43B5-B3DA-A2F3B514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E9CC5-1FB6-4B76-90ED-9B6DEDA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E5894-7577-48C0-86D6-15B98B4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9B42E-C0DF-4C6D-AAEF-20AF3AB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F79EF-3013-42B7-9B7E-92F93C2D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4C0B-2B57-462E-8676-230C29DF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5783C-A436-4998-9367-C13F16C0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34D3F-1BC3-4AEC-805B-34CDDDF5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16DB0-8AFF-40B7-A90F-3D8D9F7A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22C6-BF9D-4E96-99E5-C4C2DAF6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BDDB-A8BD-4ABE-8655-1540D636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91D3-2AC8-4A39-B55B-38152C6D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ED99-A97F-4AD3-8CF6-598014C1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DB2B-40FC-4D91-82C2-7C5F3972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F048-F56E-422D-B382-988C973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395-2D23-4C9B-BAFA-871F4090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28F7-C1DE-4238-9955-E3DE6486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E36F-1B34-4EC0-BC9C-7CE2537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B534-EFEE-45CF-94A1-47DE942B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9125-CF73-43D6-A2D0-7CFB41C4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2756-4253-4684-86A7-2C2F8414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145E-D82B-4D71-80D6-E8ADCBCB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B9E5-0AB5-4E78-A0D2-DC8C96AD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7FB1-A934-4D41-9EB7-515CE21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700B-F65A-4F22-8B44-3DA7D09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2819-064B-428D-9BA0-A2F2FF2B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185-77C1-449F-A89B-87B47F6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E93D-E452-4F80-A367-FA058A5C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BF59-2026-494F-9ADD-E680DC13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14CE-3F85-434C-A545-A8297960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3C2B-34F0-431C-B869-A048BE8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D009-01AD-4A54-A2BB-AEA9B496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74CF-885C-42BA-80BD-FCAA5B43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D996-9928-4245-A3C4-6B8D1B9C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12A5-45C0-460F-883F-9305DC38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9E83-2255-49FA-864D-05499001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7394E-BBB3-4324-90EE-10ACAEE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DB5-B223-4A79-8445-5D549B3A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EF42-14F4-4D2C-B25B-4B429AD9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9ED40-9B0F-4962-B888-A0FBB389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3609-12AA-4FF0-B202-FCCAFE1D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48DC-873B-41CE-A342-112C08A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35BE-CD79-441D-806D-D0E2AC0C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1744-6321-4A4F-829B-4843A4A3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8443-3377-4D51-B234-CA4F3899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1155-7C32-45F3-8A58-48182BF0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E2B5-B7E4-41EF-9492-A8DBF52E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41AD0-C0F0-4F32-BBF9-AC1863D7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B69-9ED3-42F7-90A1-075CA33A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2D0A-334F-49A4-9F3F-FD271D93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2A284-5735-4EE8-AA33-CE8591CD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70528-B8E7-46D0-B12E-112698FE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EE928-58CA-4395-A64E-2B3FFA51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E299-D292-403E-B959-CA103706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C4A3-687F-4B14-B1A5-AA483718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E4988-8536-42CA-8A44-9CB7CC43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E78E3-2571-40A5-B1E1-E3606E4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E5CA-C265-4F33-9028-B87A6D59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C5A5A-524C-4E5C-AAE8-AB368E94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306-C449-4371-991A-12D3F04D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E4414-4AE7-4BD9-BA95-D8B220E9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6953E-B581-4B62-A4F6-DB845EBA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6ADBE-B190-43D0-A75F-31EB61F8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8150A-D317-438F-8AB1-7BBC5188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BA7C-8D2F-46AA-BFC9-72D1C06A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3E2F4-5D56-4EC8-8B51-AF7F8739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DAA8-EF7E-49B5-8C63-5C958AF8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65CD8-7701-4D69-9880-D971011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409C-6CC2-4B76-BF99-CF00BEDA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2B274-3976-4249-9F0A-CCBD3AC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524-3757-4564-9443-8128CC27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9267-E821-4252-B43B-EE9E184A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7F700-CD04-4701-8BBF-023D7893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C2D29-F591-4A51-9D3B-01C2FE90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B344-A4AB-4A39-A733-B59033EE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DB27B-6166-430A-8081-B172658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AA814-6F20-4E26-ACB4-9716370C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99836-4FA8-421C-A28D-55EACC3F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6A1C2-3339-4D94-BE76-1802A07C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51A9-2AC9-44D2-BCF6-C819F492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5729E-633A-4D6E-8951-F419F6C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266-4359-4FFD-8F78-29B528C7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3655A-2549-405A-88F7-940A9879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38047-872A-41A4-A3F8-98685C94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A8DFA-A87C-4E36-BBCD-C340F30D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C9A6F-095B-4F1A-A38B-D863E52F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6A9F6-B23B-4DBA-AA52-752985F1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90061-C49F-481F-9AE9-BF2D9809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057A1-D3B0-42E7-84C0-5831AC05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ABA2D-DBA6-4C8A-922A-252A803D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BE5B-4278-4C5C-BCC2-B47905F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87CE4-DF75-4A05-8B97-EAB94863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3EE-AE59-4055-9AE6-9384EFF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B4EE9-9F9B-4DDD-BF4E-280DD2CE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9ED8E-6146-4E52-97CD-26B23893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376DB-812A-485F-9C04-EC80A1B2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EB879-0789-4058-88EC-AD05CB7B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60B1-931C-4B1D-95B0-DD7C671C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377FD-C155-47B7-8ECD-A81197C9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24A6-2155-4BE4-9064-0F90745D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8E889-9721-4E5F-A7BE-1905D941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EBC9F-5E2E-4EBF-AA9C-EDB0863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1B3AD-8060-46C8-9AA2-1587FA8B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5588-8E59-4595-825D-BB1E3CB5B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D365-B3D7-4244-B051-D63B4A9B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E940-2390-42E7-B2E8-E19F5C1C9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38BB-1C4D-4F8B-AFED-2889EFF78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7A24-3CB6-458C-91C3-449BC9EED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B4BE-F6BE-49C4-B447-4B5AD8C97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2720-DC63-4133-A4F4-AF91D448E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E577-D41A-4E09-83B5-73787A7FF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0EE6-F2B8-42C2-A318-299C9F851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A1B2-7A74-443E-A466-829AABCA0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9A4-4512-48B8-9AA8-4080C1F1F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30.gif"/><Relationship Id="rId10" Type="http://schemas.openxmlformats.org/officeDocument/2006/relationships/image" Target="../media/image31.gi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png"/><Relationship Id="rId3" Type="http://schemas.openxmlformats.org/officeDocument/2006/relationships/image" Target="../media/image31.gif"/><Relationship Id="rId4" Type="http://schemas.openxmlformats.org/officeDocument/2006/relationships/image" Target="../media/image30.gif"/><Relationship Id="rId5" Type="http://schemas.openxmlformats.org/officeDocument/2006/relationships/image" Target="../media/image25.gif"/><Relationship Id="rId6" Type="http://schemas.openxmlformats.org/officeDocument/2006/relationships/image" Target="../media/image24.gif"/><Relationship Id="rId7" Type="http://schemas.openxmlformats.org/officeDocument/2006/relationships/image" Target="../media/image29.gif"/><Relationship Id="rId8" Type="http://schemas.openxmlformats.org/officeDocument/2006/relationships/image" Target="../media/image28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shreg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audio" Target="../media/cashreg.wav"/><Relationship Id="rId15" Type="http://schemas.openxmlformats.org/officeDocument/2006/relationships/audio" Target="../media/hamm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hammer.wav"/><Relationship Id="rId19" Type="http://schemas.openxmlformats.org/officeDocument/2006/relationships/audio" Target="../media/hammer.wav"/><Relationship Id="rId20" Type="http://schemas.openxmlformats.org/officeDocument/2006/relationships/audio" Target="../media/hammer.wav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audio" Target="../media/click.wav"/><Relationship Id="rId4" Type="http://schemas.openxmlformats.org/officeDocument/2006/relationships/audio" Target="../media/laser.wav"/><Relationship Id="rId5" Type="http://schemas.openxmlformats.org/officeDocument/2006/relationships/audio" Target="../media/&#23567;&#40481;&#21483;.wav"/><Relationship Id="rId6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chimes.wav"/><Relationship Id="rId12" Type="http://schemas.openxmlformats.org/officeDocument/2006/relationships/audio" Target="../media/hammer.wav"/><Relationship Id="rId13" Type="http://schemas.openxmlformats.org/officeDocument/2006/relationships/audio" Target="../media/chimes.wav"/><Relationship Id="rId14" Type="http://schemas.openxmlformats.org/officeDocument/2006/relationships/audio" Target="../media/hammer.wav"/><Relationship Id="rId15" Type="http://schemas.openxmlformats.org/officeDocument/2006/relationships/audio" Target="../media/chimes.wav"/><Relationship Id="rId16" Type="http://schemas.openxmlformats.org/officeDocument/2006/relationships/audio" Target="../media/hammer.wav"/><Relationship Id="rId1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2.jpeg"/><Relationship Id="rId10" Type="http://schemas.openxmlformats.org/officeDocument/2006/relationships/image" Target="../media/image15.jpeg"/><Relationship Id="rId11" Type="http://schemas.openxmlformats.org/officeDocument/2006/relationships/audio" Target="../media/ZR1021.WAV"/><Relationship Id="rId12" Type="http://schemas.openxmlformats.org/officeDocument/2006/relationships/audio" Target="../media/ZR1021.WAV"/><Relationship Id="rId13" Type="http://schemas.openxmlformats.org/officeDocument/2006/relationships/audio" Target="../media/ZR1021.WAV"/><Relationship Id="rId14" Type="http://schemas.openxmlformats.org/officeDocument/2006/relationships/audio" Target="../media/ZR1021.WAV"/><Relationship Id="rId15" Type="http://schemas.openxmlformats.org/officeDocument/2006/relationships/audio" Target="../media/ZR1021.WAV"/><Relationship Id="rId16" Type="http://schemas.openxmlformats.org/officeDocument/2006/relationships/audio" Target="../media/ZR1021.WAV"/><Relationship Id="rId17" Type="http://schemas.openxmlformats.org/officeDocument/2006/relationships/audio" Target="../media/ZR1021.WAV"/><Relationship Id="rId18" Type="http://schemas.openxmlformats.org/officeDocument/2006/relationships/audio" Target="../media/ZR1021.WAV"/><Relationship Id="rId19" Type="http://schemas.openxmlformats.org/officeDocument/2006/relationships/audio" Target="../media/ZR1021.WAV"/><Relationship Id="rId20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rcRect l="2946" t="5532" r="3304" b="42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5"/>
          <p:cNvSpPr/>
          <p:nvPr/>
        </p:nvSpPr>
        <p:spPr>
          <a:xfrm>
            <a:off x="1600200" y="2057400"/>
            <a:ext cx="496872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6"/>
          <p:cNvSpPr txBox="1"/>
          <p:nvPr/>
        </p:nvSpPr>
        <p:spPr>
          <a:xfrm>
            <a:off x="2124000" y="2131920"/>
            <a:ext cx="39132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 q 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5195-7B8B-498D-B27B-D226A8401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rcRect l="0" t="0" r="0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A4N@OGH]{4_@T73%}KACY]F"/>
          <p:cNvPicPr/>
          <p:nvPr/>
        </p:nvPicPr>
        <p:blipFill>
          <a:blip r:embed="rId2"/>
          <a:stretch/>
        </p:blipFill>
        <p:spPr>
          <a:xfrm>
            <a:off x="1905120" y="457200"/>
            <a:ext cx="5715000" cy="44956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5334120" y="380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3657600" y="2209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678168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3733920" y="1371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82C5-73B7-4709-B215-05E106D1A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9622274382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755640" y="2133720"/>
            <a:ext cx="684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汉语拼音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8800" spc="-1" strike="noStrike">
                <a:solidFill>
                  <a:srgbClr val="3333cc"/>
                </a:solidFill>
                <a:latin typeface="Arial"/>
              </a:rPr>
              <a:t>j  q  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music.mp3" descr=""/>
          <p:cNvPicPr/>
          <p:nvPr/>
        </p:nvPicPr>
        <p:blipFill>
          <a:blip r:embed="rId3"/>
          <a:stretch/>
        </p:blipFill>
        <p:spPr>
          <a:xfrm>
            <a:off x="2268360" y="5734080"/>
            <a:ext cx="58608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7"/>
          <p:cNvSpPr/>
          <p:nvPr/>
        </p:nvSpPr>
        <p:spPr>
          <a:xfrm>
            <a:off x="167652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复         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5CA8-4C31-464F-88FF-0A43F7F02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3c5dae598df01ec49d82044c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 rot="10800000">
            <a:off x="3780000" y="3357000"/>
            <a:ext cx="72072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200710117919367"/>
          <p:cNvPicPr/>
          <p:nvPr/>
        </p:nvPicPr>
        <p:blipFill>
          <a:blip r:embed="rId2"/>
          <a:stretch/>
        </p:blipFill>
        <p:spPr>
          <a:xfrm>
            <a:off x="250920" y="189000"/>
            <a:ext cx="1655640" cy="2160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0725050"/>
          <p:cNvPicPr/>
          <p:nvPr/>
        </p:nvPicPr>
        <p:blipFill>
          <a:blip r:embed="rId3"/>
          <a:stretch/>
        </p:blipFill>
        <p:spPr>
          <a:xfrm>
            <a:off x="4203720" y="4292640"/>
            <a:ext cx="1231920" cy="2089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07250515"/>
          <p:cNvPicPr/>
          <p:nvPr/>
        </p:nvPicPr>
        <p:blipFill>
          <a:blip r:embed="rId4"/>
          <a:stretch/>
        </p:blipFill>
        <p:spPr>
          <a:xfrm>
            <a:off x="2268360" y="3429000"/>
            <a:ext cx="936720" cy="1603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560_420_4293917300xiayut"/>
          <p:cNvPicPr/>
          <p:nvPr/>
        </p:nvPicPr>
        <p:blipFill>
          <a:blip r:embed="rId5"/>
          <a:stretch/>
        </p:blipFill>
        <p:spPr>
          <a:xfrm>
            <a:off x="2411280" y="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2008103000450593"/>
          <p:cNvPicPr/>
          <p:nvPr/>
        </p:nvPicPr>
        <p:blipFill>
          <a:blip r:embed="rId6"/>
          <a:stretch/>
        </p:blipFill>
        <p:spPr>
          <a:xfrm>
            <a:off x="6012000" y="260280"/>
            <a:ext cx="2815920" cy="2852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0" descr="dwgs100500_sina_1155986034384511"/>
          <p:cNvPicPr/>
          <p:nvPr/>
        </p:nvPicPr>
        <p:blipFill>
          <a:blip r:embed="rId7"/>
          <a:stretch/>
        </p:blipFill>
        <p:spPr>
          <a:xfrm>
            <a:off x="7451640" y="4149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1" descr="0725052"/>
          <p:cNvPicPr/>
          <p:nvPr/>
        </p:nvPicPr>
        <p:blipFill>
          <a:blip r:embed="rId8"/>
          <a:stretch/>
        </p:blipFill>
        <p:spPr>
          <a:xfrm>
            <a:off x="3564000" y="2276640"/>
            <a:ext cx="1285920" cy="197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2" descr="11201727"/>
          <p:cNvPicPr/>
          <p:nvPr/>
        </p:nvPicPr>
        <p:blipFill>
          <a:blip r:embed="rId9"/>
          <a:stretch/>
        </p:blipFill>
        <p:spPr>
          <a:xfrm>
            <a:off x="7308720" y="5157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3" descr="11201719"/>
          <p:cNvPicPr/>
          <p:nvPr/>
        </p:nvPicPr>
        <p:blipFill>
          <a:blip r:embed="rId10"/>
          <a:stretch/>
        </p:blipFill>
        <p:spPr>
          <a:xfrm>
            <a:off x="7956720" y="4653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63" name="02卖报歌（伴奏）.wma" descr=""/>
          <p:cNvPicPr/>
          <p:nvPr/>
        </p:nvPicPr>
        <p:blipFill>
          <a:blip r:embed="rId11"/>
          <a:stretch/>
        </p:blipFill>
        <p:spPr>
          <a:xfrm>
            <a:off x="8244000" y="587700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564" name="灯片编号占位符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A7B8-FF52-4E60-BF17-4B938E520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重做背景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2008103000450593"/>
          <p:cNvPicPr/>
          <p:nvPr/>
        </p:nvPicPr>
        <p:blipFill>
          <a:blip r:embed="rId2"/>
          <a:stretch/>
        </p:blipFill>
        <p:spPr>
          <a:xfrm>
            <a:off x="5435640" y="836640"/>
            <a:ext cx="3247920" cy="27050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11201719"/>
          <p:cNvPicPr/>
          <p:nvPr/>
        </p:nvPicPr>
        <p:blipFill>
          <a:blip r:embed="rId3"/>
          <a:stretch/>
        </p:blipFill>
        <p:spPr>
          <a:xfrm>
            <a:off x="774072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11201727"/>
          <p:cNvPicPr/>
          <p:nvPr/>
        </p:nvPicPr>
        <p:blipFill>
          <a:blip r:embed="rId4"/>
          <a:stretch/>
        </p:blipFill>
        <p:spPr>
          <a:xfrm>
            <a:off x="702000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07250515"/>
          <p:cNvPicPr/>
          <p:nvPr/>
        </p:nvPicPr>
        <p:blipFill>
          <a:blip r:embed="rId5"/>
          <a:stretch/>
        </p:blipFill>
        <p:spPr>
          <a:xfrm>
            <a:off x="0" y="4797360"/>
            <a:ext cx="1055520" cy="1890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0725050"/>
          <p:cNvPicPr/>
          <p:nvPr/>
        </p:nvPicPr>
        <p:blipFill>
          <a:blip r:embed="rId6"/>
          <a:stretch/>
        </p:blipFill>
        <p:spPr>
          <a:xfrm>
            <a:off x="2195640" y="4724280"/>
            <a:ext cx="965160" cy="17733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0725052"/>
          <p:cNvPicPr/>
          <p:nvPr/>
        </p:nvPicPr>
        <p:blipFill>
          <a:blip r:embed="rId7"/>
          <a:stretch/>
        </p:blipFill>
        <p:spPr>
          <a:xfrm>
            <a:off x="324000" y="2781360"/>
            <a:ext cx="1176120" cy="1760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dwgs100500_sina_1155986034384511"/>
          <p:cNvPicPr/>
          <p:nvPr/>
        </p:nvPicPr>
        <p:blipFill>
          <a:blip r:embed="rId8"/>
          <a:stretch/>
        </p:blipFill>
        <p:spPr>
          <a:xfrm>
            <a:off x="7093080" y="4941720"/>
            <a:ext cx="761760" cy="381240"/>
          </a:xfrm>
          <a:prstGeom prst="rect">
            <a:avLst/>
          </a:prstGeom>
          <a:ln w="0">
            <a:noFill/>
          </a:ln>
        </p:spPr>
      </p:pic>
      <p:sp>
        <p:nvSpPr>
          <p:cNvPr id="57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9AE2-74AF-43F2-A213-264D6A271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Line 2"/>
          <p:cNvSpPr/>
          <p:nvPr/>
        </p:nvSpPr>
        <p:spPr>
          <a:xfrm>
            <a:off x="468360" y="170028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"/>
          <p:cNvSpPr/>
          <p:nvPr/>
        </p:nvSpPr>
        <p:spPr>
          <a:xfrm>
            <a:off x="466560" y="1125360"/>
            <a:ext cx="813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468360" y="83664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7812000" y="83664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7849440" y="112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784944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4286520" y="765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0" descr="蝴蝶鸡J"/>
          <p:cNvPicPr/>
          <p:nvPr/>
        </p:nvPicPr>
        <p:blipFill>
          <a:blip r:embed="rId1"/>
          <a:stretch/>
        </p:blipFill>
        <p:spPr>
          <a:xfrm>
            <a:off x="1042920" y="1916280"/>
            <a:ext cx="2737080" cy="45370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1"/>
          <p:cNvSpPr/>
          <p:nvPr/>
        </p:nvSpPr>
        <p:spPr>
          <a:xfrm>
            <a:off x="3708360" y="38606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小鸡小鸡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j   j   j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9454-9861-4AF8-9F34-7FA895C3C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755640" y="76500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755640" y="134136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755640" y="1628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气球1"/>
          <p:cNvPicPr/>
          <p:nvPr/>
        </p:nvPicPr>
        <p:blipFill>
          <a:blip r:embed="rId1"/>
          <a:stretch/>
        </p:blipFill>
        <p:spPr>
          <a:xfrm>
            <a:off x="1187280" y="2492280"/>
            <a:ext cx="2700360" cy="33116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3924360" y="76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7849440" y="765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7849440" y="10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7849440" y="1341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1"/>
          <p:cNvSpPr/>
          <p:nvPr/>
        </p:nvSpPr>
        <p:spPr>
          <a:xfrm>
            <a:off x="4140360" y="4005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气球气球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  q 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55C-2160-4D5E-964B-C0BD978FC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2"/>
          <p:cNvSpPr/>
          <p:nvPr/>
        </p:nvSpPr>
        <p:spPr>
          <a:xfrm>
            <a:off x="684360" y="692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684360" y="98100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684360" y="1268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684360" y="155736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7777800" y="692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777800" y="981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7777800" y="1268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切西瓜"/>
          <p:cNvPicPr/>
          <p:nvPr/>
        </p:nvPicPr>
        <p:blipFill>
          <a:blip r:embed="rId1"/>
          <a:stretch/>
        </p:blipFill>
        <p:spPr>
          <a:xfrm>
            <a:off x="539640" y="2637000"/>
            <a:ext cx="3527640" cy="302400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10"/>
          <p:cNvSpPr/>
          <p:nvPr/>
        </p:nvSpPr>
        <p:spPr>
          <a:xfrm>
            <a:off x="4141800" y="6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3708360" y="321300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西瓜西瓜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x   x  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7028-4333-4532-825A-B78FAA603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4145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3" descr="C:\My Documents\图片\书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2286000" y="2743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声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4859280" y="1268280"/>
            <a:ext cx="2089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q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200710117919367"/>
          <p:cNvPicPr/>
          <p:nvPr/>
        </p:nvPicPr>
        <p:blipFill>
          <a:blip r:embed="rId2"/>
          <a:stretch/>
        </p:blipFill>
        <p:spPr>
          <a:xfrm>
            <a:off x="971640" y="404640"/>
            <a:ext cx="2276280" cy="2664000"/>
          </a:xfrm>
          <a:prstGeom prst="rect">
            <a:avLst/>
          </a:prstGeom>
          <a:ln w="0">
            <a:noFill/>
          </a:ln>
        </p:spPr>
      </p:pic>
      <p:sp>
        <p:nvSpPr>
          <p:cNvPr id="616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2A4-D950-4ADA-B6B4-1F531DB71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d87e8b8b451ef3699f2fb4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78520" y="2637000"/>
            <a:ext cx="363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2050920" y="2997360"/>
            <a:ext cx="108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349080" y="26370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464940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56145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66657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763092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726840" y="400536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2124000" y="4365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3420720" y="400536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4775040" y="400536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572436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6659640" y="3933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766764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19"/>
          <p:cNvGrpSpPr/>
          <p:nvPr/>
        </p:nvGrpSpPr>
        <p:grpSpPr>
          <a:xfrm>
            <a:off x="468360" y="5229360"/>
            <a:ext cx="4751280" cy="764280"/>
            <a:chOff x="468360" y="5229360"/>
            <a:chExt cx="4751280" cy="764280"/>
          </a:xfrm>
        </p:grpSpPr>
        <p:sp>
          <p:nvSpPr>
            <p:cNvPr id="636" name="Text Box 20"/>
            <p:cNvSpPr/>
            <p:nvPr/>
          </p:nvSpPr>
          <p:spPr>
            <a:xfrm>
              <a:off x="468360" y="5229360"/>
              <a:ext cx="475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——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i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2268720" y="5662800"/>
              <a:ext cx="11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22"/>
          <p:cNvSpPr/>
          <p:nvPr/>
        </p:nvSpPr>
        <p:spPr>
          <a:xfrm>
            <a:off x="485928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Impact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6732720" y="5157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766764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356400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6"/>
          <p:cNvSpPr/>
          <p:nvPr/>
        </p:nvSpPr>
        <p:spPr>
          <a:xfrm>
            <a:off x="5867280" y="5229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2793600" y="620640"/>
            <a:ext cx="18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  <a:ea typeface="Arial"/>
              </a:rPr>
              <a:t>▲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读音节要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声母要读得短些轻一些，韵母要读得大声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B466-C569-42BD-8B51-D37290D5D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950000" cy="37130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3"/>
          <p:cNvSpPr/>
          <p:nvPr/>
        </p:nvSpPr>
        <p:spPr>
          <a:xfrm>
            <a:off x="1600200" y="4724280"/>
            <a:ext cx="441972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j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4343400" y="4648320"/>
            <a:ext cx="15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B7DE-A8C1-4106-A750-4ECAF5E12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1"/>
          <p:cNvSpPr/>
          <p:nvPr/>
        </p:nvSpPr>
        <p:spPr>
          <a:xfrm>
            <a:off x="2286000" y="914400"/>
            <a:ext cx="302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2916360" y="206064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3"/>
          <p:cNvSpPr/>
          <p:nvPr/>
        </p:nvSpPr>
        <p:spPr>
          <a:xfrm flipV="1">
            <a:off x="3060720" y="357156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4067280" y="249228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5940360" y="836640"/>
            <a:ext cx="2808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 flipV="1">
            <a:off x="4788000" y="206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4788000" y="3571920"/>
            <a:ext cx="1152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5181480" y="57150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4648320" y="472428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音轻短后音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音相连猛一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F6C9-140F-4E85-84EC-4ACBDFE76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3505320" y="4724280"/>
            <a:ext cx="3429000" cy="12193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5105520" y="457200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q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3505320" y="4572000"/>
            <a:ext cx="22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F2C5-4B84-491F-A799-81633D575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"/>
          <p:cNvSpPr/>
          <p:nvPr/>
        </p:nvSpPr>
        <p:spPr>
          <a:xfrm>
            <a:off x="3124080" y="4724280"/>
            <a:ext cx="396252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4876920" y="4495680"/>
            <a:ext cx="1538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429000" y="4495680"/>
            <a:ext cx="212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FFF3-2DF6-4C18-9222-9E8DD4F5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83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j  q  x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真淘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从不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在一起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它们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来相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见了帽子就摘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384E-DCF5-47E1-9A86-03540090D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3000600" y="-153360"/>
            <a:ext cx="6238800" cy="2629440"/>
            <a:chOff x="3000600" y="-153360"/>
            <a:chExt cx="6238800" cy="2629440"/>
          </a:xfrm>
        </p:grpSpPr>
        <p:sp>
          <p:nvSpPr>
            <p:cNvPr id="666" name="AutoShape 3"/>
            <p:cNvSpPr/>
            <p:nvPr/>
          </p:nvSpPr>
          <p:spPr>
            <a:xfrm rot="568800">
              <a:off x="3095640" y="333360"/>
              <a:ext cx="6048360" cy="1656000"/>
            </a:xfrm>
            <a:prstGeom prst="cloudCallout">
              <a:avLst>
                <a:gd name="adj1" fmla="val -8032"/>
                <a:gd name="adj2" fmla="val 9285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4"/>
            <p:cNvSpPr/>
            <p:nvPr/>
          </p:nvSpPr>
          <p:spPr>
            <a:xfrm rot="934800">
              <a:off x="4669200" y="701280"/>
              <a:ext cx="352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方正舒体"/>
                </a:rPr>
                <a:t>比一比，看谁最聪明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5"/>
          <p:cNvSpPr/>
          <p:nvPr/>
        </p:nvSpPr>
        <p:spPr>
          <a:xfrm>
            <a:off x="324000" y="198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468360" y="270972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左下半圆（           ），左上半圆（              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右下半圆（              ），右上半圆（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2268360" y="2637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  d 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6372360" y="256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  q 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2268360" y="321300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 b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6732720" y="3213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  p 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395280" y="39337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判断对与错（对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√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错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X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611280" y="4581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新宋体-18030"/>
              </a:rPr>
              <a:t>q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2197080" y="45813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j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370692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/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629928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q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新宋体-18030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16"/>
          <p:cNvGrpSpPr/>
          <p:nvPr/>
        </p:nvGrpSpPr>
        <p:grpSpPr>
          <a:xfrm>
            <a:off x="324000" y="4653000"/>
            <a:ext cx="8496000" cy="1939680"/>
            <a:chOff x="324000" y="4653000"/>
            <a:chExt cx="8496000" cy="1939680"/>
          </a:xfrm>
        </p:grpSpPr>
        <p:grpSp>
          <p:nvGrpSpPr>
            <p:cNvPr id="680" name="Group 17"/>
            <p:cNvGrpSpPr/>
            <p:nvPr/>
          </p:nvGrpSpPr>
          <p:grpSpPr>
            <a:xfrm>
              <a:off x="324000" y="4653000"/>
              <a:ext cx="8496000" cy="1081080"/>
              <a:chOff x="324000" y="4653000"/>
              <a:chExt cx="8496000" cy="1081080"/>
            </a:xfrm>
          </p:grpSpPr>
          <p:grpSp>
            <p:nvGrpSpPr>
              <p:cNvPr id="681" name="Group 18"/>
              <p:cNvGrpSpPr/>
              <p:nvPr/>
            </p:nvGrpSpPr>
            <p:grpSpPr>
              <a:xfrm>
                <a:off x="324000" y="4653000"/>
                <a:ext cx="8459640" cy="1079280"/>
                <a:chOff x="324000" y="4653000"/>
                <a:chExt cx="8459640" cy="1079280"/>
              </a:xfrm>
            </p:grpSpPr>
            <p:sp>
              <p:nvSpPr>
                <p:cNvPr id="682" name="Line 19"/>
                <p:cNvSpPr/>
                <p:nvPr/>
              </p:nvSpPr>
              <p:spPr>
                <a:xfrm>
                  <a:off x="324000" y="465300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20"/>
                <p:cNvSpPr/>
                <p:nvPr/>
              </p:nvSpPr>
              <p:spPr>
                <a:xfrm>
                  <a:off x="324000" y="501336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21"/>
                <p:cNvSpPr/>
                <p:nvPr/>
              </p:nvSpPr>
              <p:spPr>
                <a:xfrm>
                  <a:off x="324000" y="537192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22"/>
                <p:cNvSpPr/>
                <p:nvPr/>
              </p:nvSpPr>
              <p:spPr>
                <a:xfrm>
                  <a:off x="324000" y="573228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Line 23"/>
              <p:cNvSpPr/>
              <p:nvPr/>
            </p:nvSpPr>
            <p:spPr>
              <a:xfrm>
                <a:off x="324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183528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3348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608472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>
                <a:off x="8820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Text Box 28"/>
            <p:cNvSpPr/>
            <p:nvPr/>
          </p:nvSpPr>
          <p:spPr>
            <a:xfrm>
              <a:off x="46836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"/>
            <p:cNvSpPr/>
            <p:nvPr/>
          </p:nvSpPr>
          <p:spPr>
            <a:xfrm>
              <a:off x="205272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30"/>
            <p:cNvSpPr/>
            <p:nvPr/>
          </p:nvSpPr>
          <p:spPr>
            <a:xfrm>
              <a:off x="421164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31"/>
            <p:cNvSpPr/>
            <p:nvPr/>
          </p:nvSpPr>
          <p:spPr>
            <a:xfrm>
              <a:off x="687708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32"/>
          <p:cNvSpPr/>
          <p:nvPr/>
        </p:nvSpPr>
        <p:spPr>
          <a:xfrm>
            <a:off x="61272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219564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573440" y="57546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7021440" y="590724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灯片编号占位符 3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6043-44E9-4F81-90C3-0FF77D09E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4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4"/>
          <p:cNvGrpSpPr/>
          <p:nvPr/>
        </p:nvGrpSpPr>
        <p:grpSpPr>
          <a:xfrm>
            <a:off x="2057400" y="914400"/>
            <a:ext cx="6912000" cy="4673520"/>
            <a:chOff x="2057400" y="914400"/>
            <a:chExt cx="6912000" cy="4673520"/>
          </a:xfrm>
        </p:grpSpPr>
        <p:grpSp>
          <p:nvGrpSpPr>
            <p:cNvPr id="470" name="Group 13"/>
            <p:cNvGrpSpPr/>
            <p:nvPr/>
          </p:nvGrpSpPr>
          <p:grpSpPr>
            <a:xfrm>
              <a:off x="2057400" y="914400"/>
              <a:ext cx="6912000" cy="4673520"/>
              <a:chOff x="2057400" y="914400"/>
              <a:chExt cx="6912000" cy="4673520"/>
            </a:xfrm>
          </p:grpSpPr>
          <p:sp>
            <p:nvSpPr>
              <p:cNvPr id="471" name="Text Box 11"/>
              <p:cNvSpPr/>
              <p:nvPr/>
            </p:nvSpPr>
            <p:spPr>
              <a:xfrm>
                <a:off x="2057400" y="1058760"/>
                <a:ext cx="3024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j  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2"/>
              <p:cNvSpPr/>
              <p:nvPr/>
            </p:nvSpPr>
            <p:spPr>
              <a:xfrm>
                <a:off x="2849760" y="2067120"/>
                <a:ext cx="115236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3"/>
              <p:cNvSpPr/>
              <p:nvPr/>
            </p:nvSpPr>
            <p:spPr>
              <a:xfrm>
                <a:off x="2921040" y="329112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4"/>
              <p:cNvSpPr/>
              <p:nvPr/>
            </p:nvSpPr>
            <p:spPr>
              <a:xfrm flipV="1">
                <a:off x="2994120" y="3578040"/>
                <a:ext cx="108108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5"/>
              <p:cNvSpPr/>
              <p:nvPr/>
            </p:nvSpPr>
            <p:spPr>
              <a:xfrm>
                <a:off x="4073760" y="2570400"/>
                <a:ext cx="1081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66"/>
                    </a:solidFill>
                    <a:latin typeface="Arial"/>
                  </a:rPr>
                  <a:t>ü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16"/>
              <p:cNvSpPr/>
              <p:nvPr/>
            </p:nvSpPr>
            <p:spPr>
              <a:xfrm>
                <a:off x="6161040" y="914400"/>
                <a:ext cx="2808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j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7"/>
              <p:cNvSpPr/>
              <p:nvPr/>
            </p:nvSpPr>
            <p:spPr>
              <a:xfrm flipV="1">
                <a:off x="4721400" y="2066760"/>
                <a:ext cx="115236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8"/>
              <p:cNvSpPr/>
              <p:nvPr/>
            </p:nvSpPr>
            <p:spPr>
              <a:xfrm>
                <a:off x="4721400" y="32911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19"/>
            <p:cNvSpPr/>
            <p:nvPr/>
          </p:nvSpPr>
          <p:spPr>
            <a:xfrm>
              <a:off x="4789440" y="363564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BB55-BB3F-4615-A06E-0582F190C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4" descr="008"/>
          <p:cNvPicPr/>
          <p:nvPr/>
        </p:nvPicPr>
        <p:blipFill>
          <a:blip r:embed="rId1"/>
          <a:stretch/>
        </p:blipFill>
        <p:spPr>
          <a:xfrm>
            <a:off x="9360" y="-34920"/>
            <a:ext cx="9112320" cy="6850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pic_227642"/>
          <p:cNvPicPr/>
          <p:nvPr/>
        </p:nvPicPr>
        <p:blipFill>
          <a:blip r:embed="rId2"/>
          <a:stretch/>
        </p:blipFill>
        <p:spPr>
          <a:xfrm>
            <a:off x="1066680" y="533520"/>
            <a:ext cx="6477120" cy="44193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6"/>
          <p:cNvSpPr/>
          <p:nvPr/>
        </p:nvSpPr>
        <p:spPr>
          <a:xfrm>
            <a:off x="3798720" y="4114800"/>
            <a:ext cx="479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见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脱帽敬个礼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37A3-A5FC-4622-8B5D-44FDB2FCE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2151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Object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949640" cy="37134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3"/>
          <p:cNvSpPr/>
          <p:nvPr/>
        </p:nvSpPr>
        <p:spPr>
          <a:xfrm>
            <a:off x="755640" y="4437000"/>
            <a:ext cx="770400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jū    jú   jǔ    j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0FBD-5A4E-4B80-A5BB-0C471D0E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Object 2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468360" y="4365720"/>
            <a:ext cx="8280360" cy="121896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qū    qú   qǔ    q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105520" y="4572000"/>
            <a:ext cx="16905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F6BF-9FC7-4587-A009-60C93F139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Object 2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533520" y="4114800"/>
            <a:ext cx="813564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xū    xú   xǔ    x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684360" y="4495680"/>
            <a:ext cx="4865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60F9-C503-4528-B370-D98BF107F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308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果树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3"/>
          <p:cNvGrpSpPr/>
          <p:nvPr/>
        </p:nvGrpSpPr>
        <p:grpSpPr>
          <a:xfrm>
            <a:off x="2895480" y="304920"/>
            <a:ext cx="1425240" cy="1224000"/>
            <a:chOff x="2895480" y="304920"/>
            <a:chExt cx="1425240" cy="1224000"/>
          </a:xfrm>
        </p:grpSpPr>
        <p:pic>
          <p:nvPicPr>
            <p:cNvPr id="505" name="Picture 4" descr="苹果1"/>
            <p:cNvPicPr/>
            <p:nvPr/>
          </p:nvPicPr>
          <p:blipFill>
            <a:blip r:embed="rId2"/>
            <a:stretch/>
          </p:blipFill>
          <p:spPr>
            <a:xfrm>
              <a:off x="2895480" y="30492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"/>
            <p:cNvSpPr/>
            <p:nvPr/>
          </p:nvSpPr>
          <p:spPr>
            <a:xfrm>
              <a:off x="3170160" y="52056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6"/>
          <p:cNvGrpSpPr/>
          <p:nvPr/>
        </p:nvGrpSpPr>
        <p:grpSpPr>
          <a:xfrm>
            <a:off x="7162920" y="1295280"/>
            <a:ext cx="1368000" cy="1224000"/>
            <a:chOff x="7162920" y="1295280"/>
            <a:chExt cx="1368000" cy="1224000"/>
          </a:xfrm>
        </p:grpSpPr>
        <p:pic>
          <p:nvPicPr>
            <p:cNvPr id="508" name="Picture 7" descr="苹果1"/>
            <p:cNvPicPr/>
            <p:nvPr/>
          </p:nvPicPr>
          <p:blipFill>
            <a:blip r:embed="rId3"/>
            <a:stretch/>
          </p:blipFill>
          <p:spPr>
            <a:xfrm>
              <a:off x="7162920" y="1295280"/>
              <a:ext cx="1368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8"/>
            <p:cNvSpPr/>
            <p:nvPr/>
          </p:nvSpPr>
          <p:spPr>
            <a:xfrm>
              <a:off x="7162920" y="1439640"/>
              <a:ext cx="131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n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9"/>
          <p:cNvGrpSpPr/>
          <p:nvPr/>
        </p:nvGrpSpPr>
        <p:grpSpPr>
          <a:xfrm>
            <a:off x="914400" y="0"/>
            <a:ext cx="1599840" cy="1676160"/>
            <a:chOff x="914400" y="0"/>
            <a:chExt cx="1599840" cy="1676160"/>
          </a:xfrm>
        </p:grpSpPr>
        <p:pic>
          <p:nvPicPr>
            <p:cNvPr id="511" name="Picture 10" descr="苹果1"/>
            <p:cNvPicPr/>
            <p:nvPr/>
          </p:nvPicPr>
          <p:blipFill>
            <a:blip r:embed="rId4"/>
            <a:stretch/>
          </p:blipFill>
          <p:spPr>
            <a:xfrm>
              <a:off x="914400" y="0"/>
              <a:ext cx="1599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11"/>
            <p:cNvSpPr/>
            <p:nvPr/>
          </p:nvSpPr>
          <p:spPr>
            <a:xfrm>
              <a:off x="1222560" y="295200"/>
              <a:ext cx="123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2"/>
          <p:cNvGrpSpPr/>
          <p:nvPr/>
        </p:nvGrpSpPr>
        <p:grpSpPr>
          <a:xfrm>
            <a:off x="3809880" y="1981080"/>
            <a:ext cx="1642680" cy="1503000"/>
            <a:chOff x="3809880" y="1981080"/>
            <a:chExt cx="1642680" cy="1503000"/>
          </a:xfrm>
        </p:grpSpPr>
        <p:pic>
          <p:nvPicPr>
            <p:cNvPr id="514" name="Picture 13" descr="苹果1"/>
            <p:cNvPicPr/>
            <p:nvPr/>
          </p:nvPicPr>
          <p:blipFill>
            <a:blip r:embed="rId5"/>
            <a:stretch/>
          </p:blipFill>
          <p:spPr>
            <a:xfrm>
              <a:off x="3809880" y="198108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14"/>
            <p:cNvSpPr/>
            <p:nvPr/>
          </p:nvSpPr>
          <p:spPr>
            <a:xfrm>
              <a:off x="4126320" y="224568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5"/>
          <p:cNvGrpSpPr/>
          <p:nvPr/>
        </p:nvGrpSpPr>
        <p:grpSpPr>
          <a:xfrm>
            <a:off x="4267080" y="152280"/>
            <a:ext cx="1591920" cy="1224000"/>
            <a:chOff x="4267080" y="152280"/>
            <a:chExt cx="1591920" cy="1224000"/>
          </a:xfrm>
        </p:grpSpPr>
        <p:pic>
          <p:nvPicPr>
            <p:cNvPr id="517" name="Picture 16" descr="苹果1"/>
            <p:cNvPicPr/>
            <p:nvPr/>
          </p:nvPicPr>
          <p:blipFill>
            <a:blip r:embed="rId6"/>
            <a:stretch/>
          </p:blipFill>
          <p:spPr>
            <a:xfrm>
              <a:off x="4267080" y="152280"/>
              <a:ext cx="1591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17"/>
            <p:cNvSpPr/>
            <p:nvPr/>
          </p:nvSpPr>
          <p:spPr>
            <a:xfrm>
              <a:off x="4573800" y="367920"/>
              <a:ext cx="12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1"/>
          <p:cNvGrpSpPr/>
          <p:nvPr/>
        </p:nvGrpSpPr>
        <p:grpSpPr>
          <a:xfrm>
            <a:off x="6400800" y="0"/>
            <a:ext cx="1439640" cy="1224000"/>
            <a:chOff x="6400800" y="0"/>
            <a:chExt cx="1439640" cy="1224000"/>
          </a:xfrm>
        </p:grpSpPr>
        <p:pic>
          <p:nvPicPr>
            <p:cNvPr id="520" name="Picture 22" descr="苹果1"/>
            <p:cNvPicPr/>
            <p:nvPr/>
          </p:nvPicPr>
          <p:blipFill>
            <a:blip r:embed="rId7"/>
            <a:stretch/>
          </p:blipFill>
          <p:spPr>
            <a:xfrm>
              <a:off x="6400800" y="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23"/>
            <p:cNvSpPr/>
            <p:nvPr/>
          </p:nvSpPr>
          <p:spPr>
            <a:xfrm>
              <a:off x="6678000" y="215640"/>
              <a:ext cx="11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4"/>
          <p:cNvGrpSpPr/>
          <p:nvPr/>
        </p:nvGrpSpPr>
        <p:grpSpPr>
          <a:xfrm>
            <a:off x="762120" y="2362320"/>
            <a:ext cx="1447200" cy="1224000"/>
            <a:chOff x="762120" y="2362320"/>
            <a:chExt cx="1447200" cy="1224000"/>
          </a:xfrm>
        </p:grpSpPr>
        <p:pic>
          <p:nvPicPr>
            <p:cNvPr id="523" name="Picture 25" descr="苹果1"/>
            <p:cNvPicPr/>
            <p:nvPr/>
          </p:nvPicPr>
          <p:blipFill>
            <a:blip r:embed="rId8"/>
            <a:stretch/>
          </p:blipFill>
          <p:spPr>
            <a:xfrm>
              <a:off x="762120" y="236232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26"/>
            <p:cNvSpPr/>
            <p:nvPr/>
          </p:nvSpPr>
          <p:spPr>
            <a:xfrm>
              <a:off x="1040760" y="2577960"/>
              <a:ext cx="111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q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30"/>
          <p:cNvGrpSpPr/>
          <p:nvPr/>
        </p:nvGrpSpPr>
        <p:grpSpPr>
          <a:xfrm>
            <a:off x="5334120" y="1600200"/>
            <a:ext cx="1642680" cy="1503000"/>
            <a:chOff x="5334120" y="1600200"/>
            <a:chExt cx="1642680" cy="1503000"/>
          </a:xfrm>
        </p:grpSpPr>
        <p:pic>
          <p:nvPicPr>
            <p:cNvPr id="526" name="Picture 31" descr="苹果1"/>
            <p:cNvPicPr/>
            <p:nvPr/>
          </p:nvPicPr>
          <p:blipFill>
            <a:blip r:embed="rId9"/>
            <a:stretch/>
          </p:blipFill>
          <p:spPr>
            <a:xfrm>
              <a:off x="5334120" y="160020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32"/>
            <p:cNvSpPr/>
            <p:nvPr/>
          </p:nvSpPr>
          <p:spPr>
            <a:xfrm>
              <a:off x="5650560" y="186480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36"/>
          <p:cNvGrpSpPr/>
          <p:nvPr/>
        </p:nvGrpSpPr>
        <p:grpSpPr>
          <a:xfrm>
            <a:off x="2286000" y="1752480"/>
            <a:ext cx="1447560" cy="1224000"/>
            <a:chOff x="2286000" y="1752480"/>
            <a:chExt cx="1447560" cy="1224000"/>
          </a:xfrm>
        </p:grpSpPr>
        <p:pic>
          <p:nvPicPr>
            <p:cNvPr id="529" name="Picture 37" descr="苹果1"/>
            <p:cNvPicPr/>
            <p:nvPr/>
          </p:nvPicPr>
          <p:blipFill>
            <a:blip r:embed="rId10"/>
            <a:stretch/>
          </p:blipFill>
          <p:spPr>
            <a:xfrm>
              <a:off x="2286000" y="175248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38"/>
            <p:cNvSpPr/>
            <p:nvPr/>
          </p:nvSpPr>
          <p:spPr>
            <a:xfrm>
              <a:off x="2565000" y="1968120"/>
              <a:ext cx="11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灯片编号占位符 3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61C7-4674-4C1C-BDCF-27B217709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页脚占位符 3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(WBFYT`{8D[LWK1}16HD4DD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60C2-1F6B-47A6-9CF1-2E6AC0AE3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4:05:56Z</dcterms:created>
  <dc:creator/>
  <dc:description/>
  <cp:keywords/>
  <dc:language>en-US</dc:language>
  <cp:lastModifiedBy>User</cp:lastModifiedBy>
  <dcterms:modified xsi:type="dcterms:W3CDTF">2016-10-05T12:44:1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  <property fmtid="{D5CDD505-2E9C-101B-9397-08002B2CF9AE}" pid="3" name="Version">
    <vt:r8>1</vt:r8>
  </property>
</Properties>
</file>